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gif" ContentType="image/gif"/>
  <Override PartName="/ppt/media/image7.png" ContentType="image/png"/>
  <Override PartName="/ppt/media/image11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1B9-6B84-49CD-9D4C-8A8A1F9A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398-0BE5-4464-889D-4A8E5C1B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528-7EF3-4654-B777-21EC252F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D4C-D52F-4ADB-9B72-DB378317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CE9B-BBC8-462E-859D-7C827F34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2589-87EC-495E-A6CF-BBF8174B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E576-AA08-422A-AD71-8ECB1DF0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23EA-BF3A-4E34-BE55-A887DDE7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CF27-2528-4326-B7EC-D30350B5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8422-B393-40F0-9295-8C264D0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C9B5-0C62-4E84-9314-C7A799A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005-1A6A-474D-A15F-89E6884D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5D62-5509-445B-B9A7-09E0CCBA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F517-154D-430B-996E-65C13926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D755-8E54-4A11-8D41-EC32CB0E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9FBF-9B0D-46B8-80D1-A54A91F9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8BDD-BF7F-404E-93B2-D689510C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ED1-E0A9-4EFC-8EF5-F3A84D2E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6C1-0727-4124-A6A6-C27C3C4B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F76-B68A-47E2-B8CE-9E0C7508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8B1-DD1E-424E-A20E-20AE54A0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406-8DE5-4A31-8F68-09E9F039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B7B-4672-405D-AC3D-63568D2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C60-F818-427E-B8A7-CA7F8515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84E8-4A4D-46FD-BB4E-800A6AC08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58DD-A6F3-407F-87BE-375A9CEE3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hapter 1: A Healthy Foundation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: Your Health &amp; We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4724280"/>
            <a:ext cx="1765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lln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ing the three parts of your health triangle balanced is the best way to achieve we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it mean to have a high level of well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427040" cy="1414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15019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osing Questions/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mo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meaning of we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ree aspects of health that must be balanced in order to achieve we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relationship between health and we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r triangle is out of balance… Why? What can you do to balance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LL ACTIVITY: How healthy are you?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st at least 5 conditions or behaviors that indicate the state of your own heal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hat do you or do you not do for your health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Brushing tee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1741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ing Healthy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it mean to be healt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health involves every part of your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lth 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combination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al, mental/emotional, and social well-be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cal H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to do with the condition of your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ntal/Emotional H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als with your thoughts and emotions. Emotions are feelings such as joy, love, and f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ial H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volves ways in which you relate to other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sical Heal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t a well-balanced 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fit through regular exer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at least 8 hours of sleep each n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your body, teeth, and hair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regular medical and dental check u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tobacco, alcohol, an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ntal/Emotional Heal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 problems with a positive and realistic attitu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 your feelings clearly and calmly to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priorities so that you will not be overwhelmed by school, responsibilities at home, or athletic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your mistakes as opportunities to learn, grow, and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 your weak areas and try to improve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effective decision-making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your talents effectiv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pt responsibility for your 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up for your beliefs and va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 open to learning new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71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cial Heal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friendly, open attitude toward other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communicate effectiv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 and care for family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 loyal, truthful, and dependable fri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other people’s feel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 other people’s prop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disagree without argu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resolve conflicts effectiv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support and help when it is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uld you believe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ghter may actually be “good medicine.” Individual experiences and scientific experiments document the close relationship between good emotional health, as expressed in humor and laughter, and good physical h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natomy of Ill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 account of his struggle with severe and painful connective tissue disease, Norman Cousins wrote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I made the joyous discovery that ten minutes of genuine belly laughter had an anesthetic effect and would give me at least two hours of pain-free sleep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657600" y="51055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ying in ba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easy to concentrate on one aspect of health and neglect the ot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ly healthy person however, keeps physical, mental/emotional, and social health in proper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17650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676520" y="4419720"/>
            <a:ext cx="28620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ealth Triang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0765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7:36:44Z</dcterms:created>
  <dc:creator>GSCS</dc:creator>
  <dc:description/>
  <dc:language>en-US</dc:language>
  <cp:lastModifiedBy>GSCS</cp:lastModifiedBy>
  <dcterms:modified xsi:type="dcterms:W3CDTF">2011-01-06T13:00:16Z</dcterms:modified>
  <cp:revision>3</cp:revision>
  <dc:subject/>
  <dc:title>Chapter 1: A Healthy Foundation </dc:title>
</cp:coreProperties>
</file>